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BE45-2F9B-44E4-9768-547BD6A6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A7E0-CDD8-49D6-9584-9E2E8FBC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FC4B-0AE9-4DB1-98D2-12CD54B4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399E-CBB2-47A4-BD20-9EF0C27A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85D3-36A8-478D-BE25-38117B06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51C4-685F-4167-B7D9-D027552E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8600-3257-4452-BFC9-71B7CF90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7203-F97E-4201-9618-F536BF9B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B424-8085-4C5C-B666-13B461D8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9F51-E52B-4A28-9A8A-E6DDAB7C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7DBE-971C-4C12-B1BA-C1485D44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1449-CCC5-4B8B-A434-F78199F2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1B3E-2563-4FD1-A1AD-491DEE1B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A93F-1D6A-490F-A894-A2D94604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491A-DF85-4D68-A22A-BE6CD6DE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1C63-A00E-41D3-AB57-A5071D3A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434C-0BA6-48C7-924F-4B9DF0E5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1C7C-5171-4A44-81E1-2D065346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5A9C-BDB6-4107-BE6B-DEEECD38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BB6B-D63D-469A-8E82-5776DC2C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0B6-D1C9-4B8A-A6E8-4001B651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930E-8137-4267-A9A9-7F91EE40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BB5E-EBA9-4758-9044-678EEF32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32FB-B235-41A9-B1F3-9363914C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7E87-D560-4E57-B3F9-5F87A8EB9DF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9FC1-5C76-4838-8016-77B1ABCBA15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doni MT Black"/>
              </a:rPr>
              <a:t>LESSON 11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Bodoni MT Black"/>
              </a:rPr>
              <a:t>THE PEARL OF GREAT PRIC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13:45-4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Seeking and finding the Kingdom is the supreme discovery bringing the greatest joy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the same as the parable of the “Hidden Treasure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“Great Value” of the Kingdom is still the top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willingness to sacrifice all is the characteristic of the seeker for the finder of the treas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cc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cc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Merchant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” – Trader; merchantman; retailer – Rev. 18:3, 11,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merchants of the world weep over fallen Babylon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Pear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” – Highly esteemed for purity and beau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ason for Jesus’ advice – Matt 7: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ither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have appreciation for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spiritual valu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1 Cor. 2:14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natural man does not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 receive the things of the spirit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velation 21:21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Holy city…adorne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with twelve pearls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APPLICATION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parable expands on the message of the “Hidden Treasure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wisdom of seeking the greatest things in lif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Heb. 11:6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God is a rewarder of them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that diligent seek Him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tt. 6:33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seek first </a:t>
            </a:r>
            <a:r>
              <a:rPr b="0" lang="en-US" sz="2800" spc="-1" strike="noStrike">
                <a:solidFill>
                  <a:srgbClr val="ffffff"/>
                </a:solidFill>
                <a:latin typeface="BernhardMod BT"/>
              </a:rPr>
              <a:t>(first importance)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kingdom of God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Matt 7:7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he that seeks, finds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Acts 17:27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he his not far from each on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of us…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easy to find for those who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seek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APPLICATION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ernhardMod BT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merchant had a definit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urpose –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he pursued it with singleness of hea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Luke 15:8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The woman had a lamp, swept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and searched diligentl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Too much “aimlessness” to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 The parable illustrates the Kingdom i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worth intense and diligent sear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merchant was not satisfied with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rdinary; common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he sought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BernhardMod BT"/>
              </a:rPr>
              <a:t>fine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pearl of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BernhardMod BT"/>
              </a:rPr>
              <a:t>great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valu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APPLICATION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ernhardMod BT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Understanding the great worth in finding the pear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pearl equates to an eternally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aved sou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ohn 1:45-46 – It is Phillip’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nnouncement to Nathanael,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We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have found the one Moses wrote about in the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law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APPLICATION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ernhardMod BT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willingness to sacrific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to possess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ear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The merchant was an ordinary trader, but 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becomes a collec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His interest is no longer for physical ga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) Treasure is too great to negotiate wi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) Possession brings joy – he would sell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everything el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) All other pearls are sacrificed to posses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this 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There may be more than one way to find a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treasure or pearl, but there is onl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one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way to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possession them –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sell everything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APPLICATION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ernhardMod BT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alvation is both a gift and a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urcha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It is a gift - because it is not of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merchant’s doing – only his discove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It is a purchase – because it is wort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everything we can put into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uke 12:34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For where your treasure is, ther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will your heart be also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Cf. Col. 3:2-3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Set your mind on things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above, not on earthly things. For you died, an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your life is now hidden with Christ in God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Cf. Matt 6:20 –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But store up for yourselves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treasures in heaven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21:18:32Z</dcterms:created>
  <dc:creator>Jerry Cantrell </dc:creator>
  <dc:description/>
  <dc:language>en-US</dc:language>
  <cp:lastModifiedBy>Jerry Cantrell </cp:lastModifiedBy>
  <dcterms:modified xsi:type="dcterms:W3CDTF">2006-02-10T03:29:05Z</dcterms:modified>
  <cp:revision>11</cp:revision>
  <dc:subject/>
  <dc:title>LESSON 11 THE PEARL OF GREAT PRICE</dc:title>
</cp:coreProperties>
</file>